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CE6A-60CD-4D3B-97DB-9477BAD5E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F5D4-2DFD-47DF-8F94-926F3D4320C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CAAA-7585-4476-AC63-17057C594AD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ofesorii sunt mai mult decât instructori— ei sunt facilitatori ai procesului de învăţare, implementatori, evaluatori şi proiectanţi ai lecţiilor predate în cadrul unităţii de învăţ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129-C158-4F15-89F0-066BC10DCEF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CD Resur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Realizare scurtatura pe desktop (+varianta din My Comput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CD Resurse şi prezentare mod de navigare butoane şi meni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HelpGuide (din pag principala a CD resurse sau din fold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meniu şi a modului de navig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Ca aplicaţie intru în Essential Course şi le arăt cum să urmărească paşii pentru realizarea structurii de directo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52B-9A61-4C46-BC5F-91CB713E931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Se recomandă listarea structurii complete de la pag 1.07 şi a listei de verificare a portofoliulu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1.08)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pentru a lucra în mod eficient în continu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6388-A8D4-462D-9120-EC1305888C4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pentru completarea cerinţelor. Modulul 1, Activitatea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8B43-24AA-4C92-BA8D-FDC183BB710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2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6006-9676-4097-85F3-17FF50DE7E7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3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7734-2E6C-4D2D-88BB-33E84C3501A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entru a avea succes, Unităţile de învăţare trebuie proiectate cu scopul final în minte şi trebuie organizate în jurul unor concepte importa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548B-5B52-43DB-96A7-C9EE9CA8840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lanificarea unităţii de învăţare nu este liniară; ea include întotdeauna întoarcerea la pasul anterior aşa cum este indicat în gra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: răspunsul la întrebări şi completarea tabelulu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DFFD-2690-4B14-806B-7751797E1B9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C697-2A8F-4639-8C4E-89E211E6836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iectele care oferă mai multe oportunităţi de învăţare pot fi semnificativ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iferite în ceea ce priveşte aria tematică sau scopul şi pot fi aplicate la clase diferite şi la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i multe niveluri de studiu. Proiectele angajează elevii în roluri active, cum ar fi rol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elui car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zolvă probleme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a decizia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vestighează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ocumentează; În timp ce lucrează la proiecte, elevii îşi dezvoltă abilităţi reale, corespunzătoare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olului XXI— multe din acestea fiind solicitate de angajatorii din zilele noastre—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um ar fi capacitatea 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cra bine cu ceilalţ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a decizii bine gând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avea iniţiativ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rezolva probleme complex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uto-direcţion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comunica efic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E4EF-71B6-4F3B-B024-1FA60C83433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1B21-0E97-4E80-A957-FA6FF33B7B0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În timp ce lucrează la proiecte, elevii îşi dezvoltă abilităţi reale, corespunzătoare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olului XXI— multe din acestea fiind solicitate de angajatorii din zilele noastre—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um ar fi capacitatea 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cra bine cu ceilalţ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a decizii bine gând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avea iniţiativ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rezolva probleme complex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uto-direcţion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comunica efic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9C19-7ED8-478D-B0E9-AD39D869CF3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işă de lucru în director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a 4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DBAF-4862-4CE0-A77A-D509F130910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site Int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919E-BF8D-4686-9206-1BA5632FE99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3B43-77EB-4967-923E-BA627737AEF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5 min = Planificare în avans – Pas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EFA4-95BA-41FF-B483-0EB2F3782B7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2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G hidare la intrarea pe blog si la completarea acestuia. http://isc4lugojna.blogspot.com   </a:t>
            </a:r>
            <a:r>
              <a:rPr b="1" lang="ro-RO" sz="1200" spc="-1" strike="noStrike" u="sng">
                <a:solidFill>
                  <a:srgbClr val="000000"/>
                </a:solidFill>
                <a:uFillTx/>
                <a:latin typeface="Verdana"/>
              </a:rPr>
              <a:t>http://ISCBihor1NA.21classes.c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o-RO" sz="1200" spc="-1" strike="noStrike" u="sng">
                <a:solidFill>
                  <a:srgbClr val="000000"/>
                </a:solidFill>
                <a:uFillTx/>
                <a:latin typeface="Verdana"/>
              </a:rPr>
              <a:t>http://ISCBihor2NA.21classes.com</a:t>
            </a:r>
            <a:r>
              <a:rPr b="1" lang="ro-RO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http://isc3timisoarana.blogspot.co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http://isc4lugojna.blogspot.co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1C4C-5BF0-4B76-A288-7B4651FFEF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– completare pasul 2 şi 3 (pasul 1 este completat dej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6B82-936B-443D-8D42-042935EADA3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1C42-B8E0-450E-BD36-E62CDCA760F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F004-A524-4FEB-8C4B-94E5263F93F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2704-A009-46D4-9CBA-320532FD189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1999, the Intel Teach Program has helped over 4 million educators in more than 35 countr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goal of 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se Foc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hemes of the Essentials Course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ing technology effectively in the classroom to promote 21st century ski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8C15-45BD-4F32-B987-2B9C19BDB76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985E-D02C-43D0-A719-4FAE76587E2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E09D-E91E-42E1-B46C-CD1295F3861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C50A-90A5-43EA-9DCE-2D1FBA18C0E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a abilităţilor necesare în secolul XXI – 1.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istă de abilităţi ale secolului XXI este prezentată în detaliu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</a:t>
            </a:r>
            <a:r>
              <a:rPr b="0" i="1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ctivitatea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E93A-AAF3-4D32-BE50-C9CB15FDE14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in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plicaţii ale elevilor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 înţeleg toate tipurile de materiale (publicaţii , prezentări, wiki sau blog) realizate de către profesori din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erspectiva elevilor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D188-EB67-4890-8A3A-184070CC794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AEDC-745F-4D21-87C1-E059C51F752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abe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ul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este disponibil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D7CC-DF62-47A6-901A-CC4F4E999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A3B4-368A-4075-9EAE-B7B79C3A7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12CD-7649-4FB7-B254-BB26AAFD2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963F-FDC4-4E91-B1BC-865387068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BDA5-A789-46CD-9CEF-F4A2F2F53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523D-CE2A-4B48-B63F-6DC7013A5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7267-7B6F-44AE-A0BA-D3FBA2A68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B5B9-2E1E-4FA7-9A51-68B8590D5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03D5-B36D-406B-8D4B-CBC4D69B6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A607-0E7C-4693-B401-185C6185F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72D0-80DB-49F0-B141-7C67A59F0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B8A8-38AA-4E52-BEFD-60882EDCD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A0BD-4324-4ADA-912B-2442886E82F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metoda%20proiectului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Act%203%20Analizarea%20proiectelor/Lista%20verificare%20proiecte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GM__2313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0"/>
            <a:ext cx="177480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93680" y="4809960"/>
            <a:ext cx="895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ntel®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–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nstruirea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 în societatea cunoaşteri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952F-A177-45CD-9ABE-00AD9680299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4760" y="819000"/>
            <a:ext cx="846936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Noile roluri ale profesor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1.0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fesorii sunt mai mult decât instructori –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i sunt facilitatori ai procesului de învăţare, implementatori, evaluatori şi proiectanţi ai lecţiilor din unitatea de învăţ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Deciziile pe care ei le iau în procesul instruirii au un impact major asupra educaţiei elevulu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cadrul acestui curs veţi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a şi dezvolta resurse pentru unitatea de învăţa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pe care o predaţ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nitatea poate varia, ca durată, între câteva săptămâni şi mai multe luni, dar trebuie să facă referire la un domeniu cheie din programa şcolar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rtofoliul dumneavoastră este dezvoltat pe parcursul celor opt module ale cursulu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DC9D-44E8-4CD8-BCDD-1A05BFFF33D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142920" y="647640"/>
            <a:ext cx="47340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4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Crearea directorului Portofoli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1.0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6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tilizarea Intel® Ghid de asistenţ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această resursă digitală veţi găsi instrucţiuni pas cu pas cu privire la modul de finalizare al abilităţilor tehnic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uteţi utiliza Intel® Ghid de asistenţă pentru a afla în mod rapid cum se realizează anumite operaţiuni pe calculator în momentul în care acestea trebuie efectuat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tel® Ghid de asistenţă reprezintă o resursă valoroasă disponibilă atât pe parcursul participării la acest curs cât şi în viit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19" descr="GM__2346"/>
          <p:cNvPicPr/>
          <p:nvPr/>
        </p:nvPicPr>
        <p:blipFill>
          <a:blip r:embed="rId1"/>
          <a:stretch/>
        </p:blipFill>
        <p:spPr>
          <a:xfrm>
            <a:off x="4905360" y="0"/>
            <a:ext cx="4238640" cy="5996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47C8-12A6-41E4-9718-131D0FBD47E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988560"/>
            <a:ext cx="80913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Realizarea directorului Portofoliu 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(1.0</a:t>
            </a:r>
            <a:r>
              <a:rPr b="0" lang="ro-RO" sz="12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directorul Portofoliu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upă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tructura alăturată </a:t>
            </a: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ff5c00"/>
                </a:solidFill>
                <a:latin typeface="Verdana"/>
              </a:rPr>
              <a:t>7</a:t>
            </a: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sultaţi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lista de verificare a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ortofoliului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1.08)</a:t>
            </a:r>
            <a:r>
              <a:rPr b="0" lang="ro-RO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Modulul 1, Activitatea 1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acest curs veţi crea toate elemente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enţiona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este elemente formează împreună un Portofoliu pentru o unitate de învăţare completă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ucrând în grupuri sau echipe, veţi revizui produsele pe care le creaţi împreună cu coechipierii dumneavoastr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172120" y="257040"/>
            <a:ext cx="3971880" cy="434340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9" descr=""/>
          <p:cNvPicPr/>
          <p:nvPr/>
        </p:nvPicPr>
        <p:blipFill>
          <a:blip r:embed="rId2"/>
          <a:stretch/>
        </p:blipFill>
        <p:spPr>
          <a:xfrm>
            <a:off x="4375080" y="271152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8BFD-D5D5-4743-B1C9-E5A1348CCDA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3" descr="GM__2346"/>
          <p:cNvPicPr/>
          <p:nvPr/>
        </p:nvPicPr>
        <p:blipFill>
          <a:blip r:embed="rId1"/>
          <a:stretch/>
        </p:blipFill>
        <p:spPr>
          <a:xfrm>
            <a:off x="4834080" y="0"/>
            <a:ext cx="4309920" cy="5996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85840" y="704880"/>
            <a:ext cx="43718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1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5: Vizualizarea Şablonului Planului Unităţii de învăţare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(1.0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reaţi o scurtătură pentru documentul „Start” dacă nu aţi făcut-o dej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orniţi CD-ul cu resurse curricular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alvaţ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 şablonul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Planului Unităţii de învăţ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directorul </a:t>
            </a:r>
            <a:r>
              <a:rPr b="1" i="1" lang="ro-RO" sz="1600" spc="-1" strike="noStrike">
                <a:solidFill>
                  <a:srgbClr val="0860a8"/>
                </a:solidFill>
                <a:latin typeface="Verdana"/>
              </a:rPr>
              <a:t>Plan_unita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in portofoliul dumneavoastr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formatul planului de unitate de învăţare, revizuiţi rapid diversele secţiuni şi notaţi descrierile în câmpurile a căror completare vă este solicitat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(1.10 – 1.12) CD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Modulul 1, Activitatea 1 </a:t>
            </a:r>
            <a:r>
              <a:rPr b="0" lang="ro-RO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, Activitatea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59E4-203B-4AB1-90A4-F67C10C30BA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508640" y="1039680"/>
            <a:ext cx="45640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 preda bine şi a implica elevii în procesul de învăţare, necesită o planificare şi o proiectare atentă a unităţii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(1.13 – 1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operirea în profunzime a conţinutulu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dei importante referitoare la organizarea înţelege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valuare continu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rcini de lucru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55F3-A583-42F4-B6D1-A42C37E20BA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535200" y="0"/>
            <a:ext cx="55375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 - Învăţarea prin </a:t>
            </a:r>
            <a:r>
              <a:rPr b="0" lang="ro-RO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proiecte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zvoltă cunoştinţe, abilităţi şi atitudini prin sarcini de lucru extins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movează investigaţia, demonstraţii autentice ale produselor învăţării şi performanţelor elevilor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Face legătura dintre obiectivele operaţionale şi gândirea de nivel superior a elevilor cu contexte de viaţă reală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nclude strategii instrucţionale variate care îi implică pe elevi indiferent de stilul lor de învăţar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Deseori, elevii colaborează cu experţi din exterior sau cu membri ai comunităţii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tilizează tehnologia pentru a sprijini învăţarea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tilizează diferite metode de evaluare pentru a asigura calitatea în procesul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    </a:t>
            </a:r>
            <a:r>
              <a:rPr b="1" lang="ro-RO" sz="1400" spc="-1" strike="noStrike">
                <a:solidFill>
                  <a:srgbClr val="ff5c00"/>
                </a:solidFill>
                <a:latin typeface="Verdana"/>
              </a:rPr>
              <a:t>Vizualizaţi beneficiile prezentate la pag. 1.1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3" descr="GM__2186"/>
          <p:cNvPicPr/>
          <p:nvPr/>
        </p:nvPicPr>
        <p:blipFill>
          <a:blip r:embed="rId2"/>
          <a:srcRect l="0" t="0" r="11580" b="0"/>
          <a:stretch/>
        </p:blipFill>
        <p:spPr>
          <a:xfrm>
            <a:off x="0" y="406440"/>
            <a:ext cx="351468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80" y="0"/>
            <a:ext cx="3708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F66D-C9C5-47BC-883D-6399EB5675A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809640"/>
            <a:ext cx="862020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 Analiza planificării Unităţii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(1.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15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0000"/>
                </a:solidFill>
                <a:latin typeface="Verdana"/>
              </a:rPr>
              <a:t>Pentru a avea succes, Unităţile de învăţare trebuie proiectate cu scopul final bine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ff0000"/>
                </a:solidFill>
                <a:latin typeface="Verdana"/>
              </a:rPr>
              <a:t>conturat şi trebuie organizate în jurul unor concepte importan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e parcursul acestui curs veţi realiza un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ortofoliu de Unitate de învăţ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in 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tabilirea obiectivelor operaţional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ornind de la competenţele specifice/obiectivele de referinţă şi abilităţile necesare în secolului XX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2. Dezvoltarea de întrebări generatoare a proiectelor inter-pluri-transdisciplin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entru a-i ajuta pe elevi să se axeze pe teme şi concepte importante care vizează conexiunile între discipline şi cu viaţa real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3. Planificarea evaluării -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entrarea pe procesul de învăţare al elevilor prin evaluări continu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4. Activităţi de proiectare -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clud nevoile de învăţare ale elevilor, să facă legătura cu lumea exterioară şi să includă activităţi care implică utilizarea tehnologiei.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1.1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B3D4-4BF1-4636-A44E-761BF358266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2743200" y="177840"/>
            <a:ext cx="6365880" cy="56404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" y="863640"/>
            <a:ext cx="38498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–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50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Examinarea unui proi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50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de instruire bu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93760" y="2838600"/>
            <a:ext cx="50562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Planificarea unităţii de învăţare nu este liniară; ea include întotdeauna întoarcerea la pasul anterior aşa cum este indicat în grafi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paşii despre care cunoaşteţi cel mai mul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domeniile despre care trebuie să aflaţi mai multe 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Completaţi tabelul de la pag.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1.16 -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 1.1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295200" y="2112840"/>
            <a:ext cx="24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0000"/>
                </a:solidFill>
                <a:latin typeface="Verdana"/>
              </a:rPr>
              <a:t>CD Modulul 1, Activitatea 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F0FB-D0B7-437D-8C16-B6DB76334A8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695840" y="1039680"/>
            <a:ext cx="43768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3: Revizuirea cerinţelor de întocmire a Portofoliului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(1.1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fat: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ezentaţi criteriile de evaluare înainte ca elevii să înceapă proiectul pentru ca ei să înţeleagă care sunt cerinţele dascălului cu privire la realizarea acestuia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cerinţele de realizare a Portofoliului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(Grila. 1.18) </a:t>
            </a:r>
            <a:r>
              <a:rPr b="0" lang="ro-RO" sz="1200" spc="-1" strike="noStrike">
                <a:solidFill>
                  <a:srgbClr val="ff0000"/>
                </a:solidFill>
                <a:latin typeface="Verdana"/>
              </a:rPr>
              <a:t>Modul 1, Activitatea 2C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videnţiaţi sau subliniaţi zonele din grila de cerinţe care se referă la obiectivele pe care le-aţi identificat la pasul 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EBC0-8CD5-45D8-B744-32E44AC9DC4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0"/>
            <a:ext cx="82375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720" y="266760"/>
            <a:ext cx="901692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1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0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iectele angajează elevii în roluri activ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rezolvă problem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ia deciz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investigheaz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se documenteaz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Listă de verificare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 a caracteristicilor proiectului   </a:t>
            </a:r>
            <a:r>
              <a:rPr b="0" lang="ro-RO" sz="1400" spc="-1" strike="noStrike">
                <a:solidFill>
                  <a:srgbClr val="ff0000"/>
                </a:solidFill>
                <a:latin typeface="Verdana"/>
              </a:rPr>
              <a:t>(CD Modulul 1, Activitatea 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levii se află în centrul procesului de instrui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biectivele operaţionale aliniate competenţelor specifice respectiv obiectivelor de referinţ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Proiectul este generat de întrebări esenţiale, de unitate şi de conţinu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Proiectul implică metode de evaluare multiple şi continu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Proiectul implică sarcini de lucru şi activităţi conectate, care se desfăşoară într-o anumită perioadă de timp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Proiectul are conexiuni cu lumea real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levii îşi demonstrează cunoştinţele şi abilităţile prin intermediul produselor care sunt publicate, prezentate sau afişat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Tehnologia sprijină şi îmbunătăţeşte procesul de învăţare al elevilor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bilităţile de gândire de nivel superior sunt incluse în activitatea de proiec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Strategiile de instruire variate sprijină diverse stiluri de învăţar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8845-13A4-4551-B08F-11F9A7781AA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5" descr="IM0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6000" y="5387760"/>
            <a:ext cx="793764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odul 1 –Predarea prin proiecte</a:t>
            </a:r>
            <a:br>
              <a:rPr sz="1300"/>
            </a:br>
            <a:r>
              <a:rPr b="0" lang="en-US" sz="13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endParaRPr b="1" lang="en-US" sz="13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117-8542-4F75-86CA-F805BAD7DD5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0"/>
            <a:ext cx="82375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2520" y="255600"/>
            <a:ext cx="8566200" cy="32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(cont.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algn="just">
              <a:spcBef>
                <a:spcPts val="1199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5c00"/>
                </a:solidFill>
                <a:latin typeface="Verdana"/>
              </a:rPr>
              <a:t>Nu toate unităţile de învăţare trebuie să includă un proiect, însă în momentul în care învăţarea pe bază de proiect este adecvată, integrarea unui proiect poate stimula semnificativ învăţarea 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xista diferite niveluri ale modelării unităţilor de învăţ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bazate pe proiect de la început până la sfârş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clud un proiect ca şi experienţă culminantă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clud un proiect într-un anumit segment al unităţi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82520" y="3375000"/>
            <a:ext cx="874224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Vizualizarea Portofoliilor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Vezi CD–Modul 1–Activitatea 4–Link Intel Educationa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portofoliile situate în directorul Portofolii de pe CD-ul de resurse sau vizualizaţi exemplele de pe site-ul web Intel® Education.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Arial"/>
              </a:rPr>
              <a:t>http://educate.intel.com/ro/ProjectDesign</a:t>
            </a:r>
            <a:r>
              <a:rPr b="1" lang="ro-RO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Arial"/>
              </a:rPr>
              <a:t>http://educate.intel.com/</a:t>
            </a:r>
            <a:r>
              <a:rPr b="1" lang="ro-RO" sz="1600" spc="-1" strike="noStrike">
                <a:solidFill>
                  <a:srgbClr val="ffffff"/>
                </a:solidFill>
                <a:latin typeface="Verdana"/>
                <a:ea typeface="Arial"/>
              </a:rPr>
              <a:t>en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Arial"/>
              </a:rPr>
              <a:t>/ProjectDesign</a:t>
            </a:r>
            <a:r>
              <a:rPr b="1" lang="ro-RO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(1.21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uaţi în considerare modul în care acestea abordează diversele elemente din lista de verificare a caracteristicilor proiectulu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ce mod au fost incorporate proiectele în unităţile de învăţa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aţi putea utiliza ideile de proiect pentru a îmbunătăţi predarea unităţii 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văţare select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5A05-B321-4164-A5AB-544A09F235E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960" y="803160"/>
            <a:ext cx="836280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3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roiectaţi publicaţia pentru a prezenta conceptul de proiect unui public cum ar fi elevii dumneavoastră, părinţii acestora sau alţi membri ai comunităţii şcolare posibil interesaţ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la modul în care utilizaţi în prezent metoda proiectului în instruire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roiectaţi-vă publicaţia astfel încât să răspundă întrebărilor pe care consideraţi că vi le vor adresa elevii sau părinţii acestora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Fişă de lucru  </a:t>
            </a:r>
            <a:r>
              <a:rPr b="0" i="1" lang="ro-RO" sz="1000" spc="-1" strike="noStrike">
                <a:solidFill>
                  <a:srgbClr val="0860a8"/>
                </a:solidFill>
                <a:latin typeface="Verdana"/>
              </a:rPr>
              <a:t>Modulul 1, Activitatea 4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 CD 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rezentarea publicaţiei la începutul unităţii de învăţare poate ajuta la stabilirea aşteptărilor şi la pregătirea elevilor pentru activităţile ulterio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7269120" y="4003560"/>
          <a:ext cx="91440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9120" y="400356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C0DD-E07C-4319-8CE5-77DE94D30F7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Documentarea cu privire la învăţarea bazată pe proiec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plicaţi asupra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http://educate.intel.com/ro/ProjectDesig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http://educate.intel.com/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Arial"/>
              </a:rPr>
              <a:t>en</a:t>
            </a:r>
            <a:r>
              <a:rPr b="1" lang="en-GB" sz="2000" spc="-1" strike="noStrike">
                <a:solidFill>
                  <a:srgbClr val="0860a8"/>
                </a:solidFill>
                <a:latin typeface="Verdana"/>
                <a:ea typeface="Arial"/>
              </a:rPr>
              <a:t>/ProjectDesig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2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i a </a:t>
            </a:r>
            <a:r>
              <a:rPr b="0" lang="en-US" sz="1600" spc="-1" strike="noStrike" u="sng">
                <a:solidFill>
                  <a:srgbClr val="0860a8"/>
                </a:solidFill>
                <a:uFillTx/>
                <a:latin typeface="Verdana"/>
              </a:rPr>
              <a:t>Project-Based Learning Resource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i="1" lang="ro-RO" sz="1000" spc="-1" strike="noStrike">
                <a:solidFill>
                  <a:srgbClr val="0860a8"/>
                </a:solidFill>
                <a:latin typeface="Verdana"/>
              </a:rPr>
              <a:t>Modulul 1, Activitatea 4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 CD 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Resurse online pentru învatarea bazata pe proiecte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u fişie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„Resurse educaţionale pe bază de proiect”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in directorul Resurse – Resurse Internet de pe CD-ul cu resurse curricul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3: Vizualizarea exemplelor de publicaţii </a:t>
            </a:r>
            <a:r>
              <a:rPr b="0" lang="ro-RO" sz="1800" spc="-1" strike="noStrike">
                <a:solidFill>
                  <a:srgbClr val="ff0000"/>
                </a:solidFill>
                <a:latin typeface="Verdana"/>
              </a:rPr>
              <a:t>(1.25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exemplele de publicaţii de pe CD-ul cu resurse pentru idei cu privire la design-ul şi conţinutul propriei publicaţii (buletin informativ, ziar, broşură sau afiş) -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ul 1, Activitatea 4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 pe CD-ul cu resurse curricul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9212-8B94-4864-90BB-AD21A7EC8A7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ctivitatea 5: Crearea publicaţiei proprii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Cum încep elabor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6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tilizaţi șabloanele (template-urile) din CD resurse (Modulul 1 – Activitatea 5) sau de pe site pentru a alege varianta cea mai potrivită proiectului dumneavoastr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alvaţi cât mai des publicaţia în folder-ul</a:t>
            </a: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o-RO" sz="1800" spc="-1" strike="noStrike">
                <a:solidFill>
                  <a:srgbClr val="ff0000"/>
                </a:solidFill>
                <a:latin typeface="Verdana"/>
              </a:rPr>
              <a:t>Asistenţă_unita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n directorul Portofoli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-3: Adăugarea elementelor de bază şi suplimentare la publicaţia prop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0000"/>
                </a:solidFill>
                <a:latin typeface="Verdana"/>
              </a:rPr>
              <a:t>(1.27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26676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tilizaţi Intel® Ghid de asistenţă pentru</a:t>
            </a:r>
            <a:r>
              <a:rPr b="0" lang="ro-RO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7030a0"/>
                </a:solidFill>
                <a:latin typeface="Verdana"/>
              </a:rPr>
              <a:t>realizarea</a:t>
            </a:r>
            <a:r>
              <a:rPr b="0" lang="en-US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7030a0"/>
                </a:solidFill>
                <a:latin typeface="Verdana"/>
              </a:rPr>
              <a:t>ș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odificarea publicaţie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40B6-CAC8-44B1-B3B9-D6BCD20B509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7520" y="614520"/>
            <a:ext cx="8362800" cy="8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Revizuirea modul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9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90440" y="1565280"/>
            <a:ext cx="8678880" cy="440208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98360" y="1630440"/>
            <a:ext cx="8651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Modul 1 Elemente chei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Cercetarea asupra învăţării şi predării indică importanţ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Acoperirii materiei de studiu în profunzim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Ideilor de bază pentru organizarea procesului de înţeleg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Evaluării continu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Sarcinilor semnificative,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roiectele se axează pe scenarii care oferă numeroase oportunităţi de studiu. Acestea implică elevii în investigaţii de rezolvare a problemelor şi a altor sarcini importante. Proiectele realizează legătura cu viaţa de fiecare zi şi abordează probleme real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aşii pentru realizarea proiectelor includ următoarele acţiuni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1. Stabilirea obiectivelor operaţiona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2. Dezvoltarea Întrebărilor care generează proiecte inter-pluri-transdsiplin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. Realizarea unui plan de evalu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4. Proiectarea activităţ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9C0D-16C4-4B2E-95D2-9B402C31C5E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506840" y="371520"/>
            <a:ext cx="463716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Pasul 2: Introducerea opiniilor în Blog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(1.29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Reflectaţi asupra activităţilor, abilităţilor şi abordărilor din acest modul în blog-ul personal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Intraţi pe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http://isc3timisoarana.blogspot.co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dăugaţi la site-uri favorite adres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Reflectaţi asupra modului în care acest modul v-a ajutat să vă creaţi şi să vă planificaţi Unitatea de învăţar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t proiectele să-i ajute pe elevii mei să atingă competenţele specifice şi obiectivele de referinţă şi să îşi dezvolte abilităţi le necesare în secolul XXI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um pot utiliza proiectele pentru a îmbunătăţi procesul de învăţare al elevilor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3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2A14-025C-4625-A2CA-4A21F72FA88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3000" y="673200"/>
            <a:ext cx="852156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lanificarea în ava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flecţii asupra Planului Unităţii de învăţare şi asupra aspectului proiectului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1.31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ăspundeţi la întrebările de la paginile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1.31 şi 1.32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MODUL 1, PLANIFICARE ÎN AVANS Inceperea  procesului de planificare CD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 Vizarea abilităţilor de nivel superior şi cele necesare în secolul XXI 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(1.3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dentificaţi abilităţile de nivel superior şi cele necesare în secolul XXI aplicabile proiectului dumneavoastră răspunzând la întrebările de mai jo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introduce aceste abilităţi în unitatea mea de învăţare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b ce formă acestea vor “lua viaţă” în clas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0000"/>
                </a:solidFill>
                <a:latin typeface="Verdana"/>
              </a:rPr>
              <a:t>Pasul 3: Localizarea resurselor materi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Colectaţi materiale </a:t>
            </a:r>
            <a:r>
              <a:rPr b="0" i="1" lang="ro-RO" sz="1600" spc="-1" strike="noStrike">
                <a:solidFill>
                  <a:srgbClr val="ff0000"/>
                </a:solidFill>
                <a:latin typeface="Verdana"/>
              </a:rPr>
              <a:t>(cum ar fi manuale, materiale de sprijin, aşteptările de la nivelul clasei, lista cu competenţe specifice-obiective de referinţă, exemple de aplicaţii ale elevilor etc.)</a:t>
            </a:r>
            <a:r>
              <a:rPr b="0" lang="ro-RO" sz="1600" spc="-1" strike="noStrike">
                <a:solidFill>
                  <a:srgbClr val="ff0000"/>
                </a:solidFill>
                <a:latin typeface="Verdana"/>
              </a:rPr>
              <a:t> care vă vor ajuta să dezvoltaţi planul unităţii de învăţ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1EB3-DE93-4B32-BBB9-4769DAD2436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Ce urmează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5960" y="950760"/>
          <a:ext cx="8528040" cy="4530960"/>
        </p:xfrm>
        <a:graphic>
          <a:graphicData uri="http://schemas.openxmlformats.org/drawingml/2006/table">
            <a:tbl>
              <a:tblPr/>
              <a:tblGrid>
                <a:gridCol w="2803680"/>
                <a:gridCol w="5724360"/>
              </a:tblGrid>
              <a:tr h="57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29CD-7A32-477A-84D8-13D385032B3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3238560" y="2762280"/>
            <a:ext cx="5562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omputers are not magi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eachers ar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2007-03-05LogoSIVECO15aniCertif_Ro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5240" y="3211200"/>
            <a:ext cx="8237520" cy="14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60a8"/>
                </a:solidFill>
                <a:latin typeface="Cambria"/>
              </a:rPr>
              <a:t>  </a:t>
            </a:r>
            <a:r>
              <a:rPr b="1" lang="ro-RO" sz="2800" spc="-1" strike="noStrike">
                <a:solidFill>
                  <a:srgbClr val="0860a8"/>
                </a:solidFill>
                <a:latin typeface="Cambria"/>
              </a:rPr>
              <a:t>Vă mulţumesc pentru participare, </a:t>
            </a:r>
            <a:br>
              <a:rPr sz="2800"/>
            </a:br>
            <a:r>
              <a:rPr b="1" lang="ro-RO" sz="2800" spc="-1" strike="noStrike">
                <a:solidFill>
                  <a:srgbClr val="0860a8"/>
                </a:solidFill>
                <a:latin typeface="Cambria"/>
              </a:rPr>
              <a:t>	</a:t>
            </a:r>
            <a:r>
              <a:rPr b="1" lang="ro-RO" sz="2800" spc="-1" strike="noStrike">
                <a:solidFill>
                  <a:srgbClr val="0860a8"/>
                </a:solidFill>
                <a:latin typeface="Cambria"/>
              </a:rPr>
              <a:t>colaborare şi răbdare!</a:t>
            </a:r>
            <a:br>
              <a:rPr sz="28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aster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eacher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ro-RO" sz="1600" spc="-1" strike="noStrike">
                <a:solidFill>
                  <a:srgbClr val="0860a8"/>
                </a:solidFill>
                <a:latin typeface="Verdana"/>
              </a:rPr>
              <a:t>Norin Ardelean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83FD-848D-45FE-85C8-B0B691B85D8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12840" y="739800"/>
          <a:ext cx="8470800" cy="2712960"/>
        </p:xfrm>
        <a:graphic>
          <a:graphicData uri="http://schemas.openxmlformats.org/drawingml/2006/table">
            <a:tbl>
              <a:tblPr/>
              <a:tblGrid>
                <a:gridCol w="2415960"/>
                <a:gridCol w="60548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</a:t>
                      </a:r>
                      <a:r>
                        <a:rPr b="0" lang="ro-RO" sz="1600" spc="-1" strike="noStrike" u="sng">
                          <a:solidFill>
                            <a:srgbClr val="f5e647"/>
                          </a:solidFill>
                          <a:uFillTx/>
                          <a:latin typeface="Verdana"/>
                          <a:ea typeface="Times New Roman"/>
                          <a:hlinkClick r:id="rId1" action="ppaction://hlinksldjump"/>
                        </a:rPr>
                        <a:t>abilităţilor necesare în secolul XXI</a:t>
                      </a:r>
                      <a:r>
                        <a:rPr b="0" lang="ro-RO" sz="1600" spc="-1" strike="noStrike" u="sng">
                          <a:solidFill>
                            <a:srgbClr val="f5e647"/>
                          </a:solidFill>
                          <a:uFillTx/>
                          <a:latin typeface="Verdana"/>
                          <a:ea typeface="Times New Roman"/>
                          <a:hlinkClick r:id="rId2" action="ppaction://hlinksldjump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840" y="3476160"/>
            <a:ext cx="8510400" cy="2597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area esenţială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ate fi utilizată tehnologia în modul cel mai eficient pentru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usţine şi pentru a evalua achiziţiile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modulului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t să-i ajut pe elevi să atingă competenţele specifice/obiectivele 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eferinţă şi să îşi dezvolte abilităţile necesare în secolul XXI prin metod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iectului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se pot utiliza proiectele pentru a îmbunătăţi procesul de învăţare 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739A-F6CA-4DB4-81A6-BA047B7A124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ompetenţe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i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abilităţi necesare în secolul XXI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9160" y="390240"/>
            <a:ext cx="87105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Responsabilitate şi capacitate de adaptare -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xersarea responsabilităţii personale şi a flexibilităţii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loc de muncă şi comunitate; stabilirea şi atingerea unor standarde şi ţeluri ridicat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Competenţe de comunicare -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nţelegerea şi realizarea unei comunicări eficiente verbale, scrise şi multimedia, într-o varietate de forme şi context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Creativitate şi curiozitate intelectuală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- 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Dezvoltarea, implementarea şi comunicarea ideilor noi altor persoane; deschidere şi receptivitate la nou, perspective variat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Gândire critică şi gândire sistemică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Exersarea gândirii în ce priveşte înţelegerea şi realizarea unor alegeri complexe; înţelegerea conexiunilor dintre sistem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Abilităţi de informare şi educare media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-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nalizarea, accesarea, administrarea, integrarea, evaluarea, şi crearea de informaţii în diverse forme şi medii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Capacităţi de colaborare şi interpersonale -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Demonstrarea capacităţilor de lucru în echipă şi de conducere; adaptarea la diverse roluri şi responsabilităţi; colaborarea productivă cu ceilalţi; conduită empatică; respectarea altor puncte de veder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Identificarea, formularea şi soluţionarea problemelor -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capacitatea de a depista, formula, analiza şi rezolva problem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Învăţare independentă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(auto-formare)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Monitorizarea propriilor nevoi de înţelegere şi învăţare; localizarea resurselor corespunzătoare; transferul cunoştinţelor dintr-un domeniu în altu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Responsabilitate socială -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Acţionarea în mod responsabil, ţinând cont de interesele comunităţii; demonstrarea unui comportament etic în contexte legate de propria persoană, loc de muncă şi comunitate.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8325000" y="5734080"/>
            <a:ext cx="466560" cy="218880"/>
          </a:xfrm>
          <a:custGeom>
            <a:avLst/>
            <a:gdLst>
              <a:gd name="textAreaLeft" fmla="*/ 14040 w 466560"/>
              <a:gd name="textAreaRight" fmla="*/ 452520 w 466560"/>
              <a:gd name="textAreaTop" fmla="*/ 14040 h 218880"/>
              <a:gd name="textAreaBottom" fmla="*/ 204840 h 218880"/>
            </a:gdLst>
            <a:ahLst/>
            <a:rect l="textAreaLeft" t="textAreaTop" r="textAreaRight" b="textAreaBottom"/>
            <a:pathLst>
              <a:path w="46002" h="21600">
                <a:moveTo>
                  <a:pt x="0" y="0"/>
                </a:moveTo>
                <a:lnTo>
                  <a:pt x="46002" y="0"/>
                </a:lnTo>
                <a:lnTo>
                  <a:pt x="46002" y="21600"/>
                </a:lnTo>
                <a:lnTo>
                  <a:pt x="0" y="21600"/>
                </a:lnTo>
                <a:close/>
              </a:path>
              <a:path fill="lightenLess" w="46002" h="21600">
                <a:moveTo>
                  <a:pt x="0" y="0"/>
                </a:moveTo>
                <a:lnTo>
                  <a:pt x="46002" y="0"/>
                </a:lnTo>
                <a:lnTo>
                  <a:pt x="44602" y="1400"/>
                </a:lnTo>
                <a:lnTo>
                  <a:pt x="1400" y="1400"/>
                </a:lnTo>
                <a:close/>
              </a:path>
              <a:path fill="darken" w="46002" h="21600">
                <a:moveTo>
                  <a:pt x="46002" y="0"/>
                </a:moveTo>
                <a:lnTo>
                  <a:pt x="46002" y="21600"/>
                </a:lnTo>
                <a:lnTo>
                  <a:pt x="44602" y="20200"/>
                </a:lnTo>
                <a:lnTo>
                  <a:pt x="44602" y="1400"/>
                </a:lnTo>
                <a:close/>
              </a:path>
              <a:path fill="darkenLess" w="46002" h="21600">
                <a:moveTo>
                  <a:pt x="46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02" y="20200"/>
                </a:lnTo>
                <a:close/>
              </a:path>
              <a:path fill="lighten" w="46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02" h="21600">
                <a:moveTo>
                  <a:pt x="15995" y="10800"/>
                </a:moveTo>
                <a:lnTo>
                  <a:pt x="30007" y="3794"/>
                </a:lnTo>
                <a:lnTo>
                  <a:pt x="30007" y="17806"/>
                </a:lnTo>
                <a:close/>
              </a:path>
            </a:pathLst>
          </a:custGeom>
          <a:solidFill>
            <a:srgbClr val="a6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4C51-935A-421D-A9C1-2E5E2B96E0B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- P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ă facem cunoştinţ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troducerea trainer-ului şi a participanţilor. În prezentare trebuie inclu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Nume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rma de învăţământ, clas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/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lasele, precum şi disciplina de pred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aşteptările de la acest cu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8394-1DD4-4668-8489-80740C2442D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688680"/>
            <a:ext cx="8469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1 - Primii paş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ezentarea cursului Intel</a:t>
            </a:r>
            <a:r>
              <a:rPr b="1" lang="ro-RO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Teach – Predarea în societatea cunoaşteri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cursului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ă ajute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cadrele didactice să utilizeze tehnologiile IT în stimularea imaginaţiei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şi să le faciliteze transferul învăţării pentru viaţa de fiecare z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in intermediul cursului ve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scoper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alităţi eficiente de a utiliza calculatoarele pentru îmbunătăţirea procesul de predare -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. Întrebarea esenţială a cursului se poate formula astfe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Cum poate fi utilizată tehnologia în modul cel mai eficient pentru a sprijini şi a evalua achiziţiile elevil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nostru în ceea ce vă priveşte: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1.02)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D Activitatea 1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ste ca dumneavoastră să vă dezvoltaţi competenţa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de a crea un portofoliu pentru o unitate de învățare pe care apoi să îl utilizaţi la clas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entru a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ridi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nivelul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de performanţă al 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13DD-107C-4BDC-8252-9CE33BE72A3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4440" y="660240"/>
          <a:ext cx="8701200" cy="2621160"/>
        </p:xfrm>
        <a:graphic>
          <a:graphicData uri="http://schemas.openxmlformats.org/drawingml/2006/table">
            <a:tbl>
              <a:tblPr/>
              <a:tblGrid>
                <a:gridCol w="2803680"/>
                <a:gridCol w="58975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abilităţilor necesare în secolul XXI 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16000" y="3321000"/>
          <a:ext cx="8746920" cy="2621160"/>
        </p:xfrm>
        <a:graphic>
          <a:graphicData uri="http://schemas.openxmlformats.org/drawingml/2006/table">
            <a:tbl>
              <a:tblPr/>
              <a:tblGrid>
                <a:gridCol w="2874960"/>
                <a:gridCol w="58719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AA91-A3A0-4F1C-9B59-2A1DEFE9055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4440" y="546120"/>
          <a:ext cx="8701200" cy="298764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3: Realizarea conexiun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Internetului ca mijloc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 a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wiki pentru a facilita schimbul de idei şi cooperare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legii drepturilor de autor şi utilizarea corectă a inform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ui document care să cuprindă lucrările cit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egrarea resurselor de pe Internet în unitatea de învăţare pentru a sprijini documentarea, comunicarea, colaborarea, rezolvarea problemelor şi/sau alte abilităţi necesare în secolul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unei resurse de colaborare on-line în scopul de a discuta despre unităţile de învăţar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16000" y="3535200"/>
          <a:ext cx="8746920" cy="256068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plicaţiei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TI pentru realiz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or aplicaţii din perspectiv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lev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strategiilor pentru utilizarea sigură, responsabilă şi corespunzătoare a Internetului de cătr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or aplicaţii ale elevilor (publicaţii ale elevilor, a unei prezentări, wiki sau blog pentru a demonstra procesul de învăţare al elevilo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iectarea procedurilor de instruire pentru unitatea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</a:t>
                      </a:r>
                      <a:r>
                        <a:rPr b="0" i="1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plicaţiei elevului</a:t>
                      </a: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26F2-32ED-4CBD-9633-B9B4B2D73FD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4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4440" y="546120"/>
          <a:ext cx="8701200" cy="319572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7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Evaluarea proiectelor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evalu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ative şi suma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bţinerea de feed-back pentru a îmbunătăţi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icaţiile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căilor de implicare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practicilor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zumatul evaluării pentru unitatea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ei evaluări sumative a </a:t>
                      </a:r>
                      <a:r>
                        <a:rPr b="0" i="1" lang="en-US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icaţiilor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exemplelor produse din perspectiva elevilor în baza evaluării suma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16000" y="3773520"/>
          <a:ext cx="8746920" cy="230508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5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6: Planificare pentru diferenţierea instrui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a elevilor în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cesul auto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pentru instruire diferenţiat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evaluări care sa încurajeze auto-formarea elevulu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pentru sprijinirea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 pentru a include un spaţiu de acomodare şi manifestare pentru toţi elevi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0D10-13D1-435E-9EF6-0CB1BED05CC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5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4440" y="546120"/>
          <a:ext cx="8701200" cy="302724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7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7: Facilitare pentru integrarea tehnologi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calităţii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acilitator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fesor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de interogare pentru formarea abilităţilor de gândire de nivel super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abilităţii de facilitator într-un proces de instruire centrat p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necesare pentru facilitarea procesulu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portofoliului unităţii de învăţare şi apoi revizuirea acestu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în blog-ul personal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calizarea resurselor de pe Internet pentru profeso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16000" y="3598920"/>
          <a:ext cx="8746920" cy="238896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4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8: Prezentarea portofoli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chimb de exprienţă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u privire la propri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tarea modului în care se face managementul tehnologiei în instruirea elevilo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documentelor de managemen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egătirea pentru prezent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ferirea şi primirea de feed-back cu privire la portofoli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valuarea cursului Intel®Teach – Predarea în societatea cunoaşter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user</cp:lastModifiedBy>
  <cp:lastPrinted>2006-11-14T00:45:04Z</cp:lastPrinted>
  <dcterms:modified xsi:type="dcterms:W3CDTF">2011-03-10T09:40:25Z</dcterms:modified>
  <cp:revision>229</cp:revision>
  <dc:subject/>
  <dc:title>Presentation Title Goes Here</dc:title>
</cp:coreProperties>
</file>